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03A-B97F-4F02-A0BF-7F566227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121-103A-4F50-836C-0010A55A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F59-426C-4C38-82FA-50842426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677-A847-46EB-9B06-44770091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8F3-ADED-4B3D-924D-8AD9F96D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6F2-FBDD-4278-AC34-A6DFB852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CBD-BB44-4A0B-B04F-4273689F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985-9BF1-4D4C-8E46-452915A3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C24-CC6B-44CC-8736-77CFCBEE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878-68AE-462E-96EE-F2A4B549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AF8-30E7-4132-81D8-92BCC65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A2F-9225-45C5-8D83-A05843BE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0BC-E24E-4532-A125-C9C0216C2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9"/>
          <p:cNvSpPr txBox="1"/>
          <p:nvPr/>
        </p:nvSpPr>
        <p:spPr>
          <a:xfrm>
            <a:off x="619200" y="2579760"/>
            <a:ext cx="7619760" cy="16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Times New Roman"/>
              </a:rPr>
              <a:t>I've had this bike for three years.</a:t>
            </a:r>
            <a:endParaRPr b="1" i="1" lang="en-US" sz="60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954160" y="752400"/>
            <a:ext cx="3789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cc6600"/>
                </a:solidFill>
                <a:latin typeface="宋体"/>
              </a:rPr>
              <a:t>Unit 10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cc6600"/>
              </a:solidFill>
              <a:latin typeface="宋体"/>
              <a:ea typeface="宋体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30320" y="4822920"/>
            <a:ext cx="32176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riod 2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254480" y="481824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ection A(3a-4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14400" y="90756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Have you ever thought about having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ard sale to sell your th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would you do with the mon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rai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022760" y="3827520"/>
            <a:ext cx="5805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es, I ha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 would give it to the char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5280" y="1268280"/>
            <a:ext cx="7488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Find the words or phrases in the article which can be replaced with the ones below and write them next to the word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378936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lose— 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Times New Roman"/>
              </a:rPr>
              <a:t>part with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  kids— 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truthful— __________      many— ________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some time— ______  even though— 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quickly— ______        older— 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654160" y="3789360"/>
            <a:ext cx="1715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327040" y="4437000"/>
            <a:ext cx="238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o be hon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861600" y="4416480"/>
            <a:ext cx="14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 lot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022160" y="5064120"/>
            <a:ext cx="1811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lth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487240" y="5661000"/>
            <a:ext cx="85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a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877000" y="5661000"/>
            <a:ext cx="13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bigg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3800" y="5064120"/>
            <a:ext cx="1488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 w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"/>
          <p:cNvSpPr/>
          <p:nvPr/>
        </p:nvSpPr>
        <p:spPr>
          <a:xfrm>
            <a:off x="395280" y="1339920"/>
            <a:ext cx="6494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5"/>
          <p:cNvSpPr txBox="1"/>
          <p:nvPr/>
        </p:nvSpPr>
        <p:spPr>
          <a:xfrm rot="246600">
            <a:off x="2835360" y="115920"/>
            <a:ext cx="30970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5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Exercis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5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800000"/>
            <a:ext cx="842472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从过去已经开始持续到现在的动作或状态，可以和表示“从过去某一时刻延续到现在的一段时间状语”连用，如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or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间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去时间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去时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段时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+ag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导的时间状语可以相互转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657440" y="231840"/>
            <a:ext cx="5867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sent Perfect Tense</a:t>
            </a:r>
            <a:endParaRPr b="1" lang="en-US" sz="1800" spc="1" strike="noStrike">
              <a:ln w="1260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044880" y="105264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现在完成时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468360" y="736560"/>
            <a:ext cx="82803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My uncle has worked at this factory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en 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 My uncle has worked at this factory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en year ag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’ve lived here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199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以来我就住在这里。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 haven’t seen him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three 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三年没有看见他了。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4143240"/>
            <a:ext cx="867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含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现在完成时的用法歌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去的动作或状态，一直持续到现在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把时间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241800" y="2664000"/>
            <a:ext cx="226692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歌诀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68360" y="549360"/>
            <a:ext cx="8136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’s been at this school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five years ago.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从五年前以来她就在这个学校。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此种用法中表示持续性的动作或状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动词必须是延续性动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否定句除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本书我买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have bought the book for five years. 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’ve had the book for five years.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8217360" y="4138560"/>
            <a:ext cx="47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7148520" y="4791240"/>
            <a:ext cx="487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1476360" y="692280"/>
            <a:ext cx="590400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句中动词的特点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675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哥哥参军多长时间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long has your brother joined the army? 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long has your brother been in the army/been a soldier? 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477160" y="2676600"/>
            <a:ext cx="4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348160" y="3890880"/>
            <a:ext cx="487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4963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转换为相应的延续性动词，用于现在完成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orrow — keep             buy — hav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ut on — 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tch a cold — have a col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 know —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 sleep —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95280" y="620640"/>
            <a:ext cx="828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非延续性动词和延续性动词之间的转换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79280" y="76464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转化为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副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gin / start — be on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o out — be ou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lose — be clo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pen — be open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/arrive/reach — be (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ie — be dead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ave — be awa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943280" y="1052640"/>
            <a:ext cx="720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inish — be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ll sleep — be asleep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oin — be in/be a member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come — b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 friends — be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me/go/ — be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应的介词短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48038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droom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卧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48000" y="57405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lway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铁路；铁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卧室"/>
          <p:cNvPicPr/>
          <p:nvPr/>
        </p:nvPicPr>
        <p:blipFill>
          <a:blip r:embed="rId2"/>
          <a:srcRect l="0" t="0" r="0" b="5500"/>
          <a:stretch/>
        </p:blipFill>
        <p:spPr>
          <a:xfrm>
            <a:off x="539640" y="1577880"/>
            <a:ext cx="4751640" cy="300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railway"/>
          <p:cNvPicPr/>
          <p:nvPr/>
        </p:nvPicPr>
        <p:blipFill>
          <a:blip r:embed="rId3"/>
          <a:stretch/>
        </p:blipFill>
        <p:spPr>
          <a:xfrm>
            <a:off x="5651640" y="2428920"/>
            <a:ext cx="3162240" cy="2857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1619280" y="260280"/>
            <a:ext cx="5400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New words</a:t>
            </a:r>
            <a:endParaRPr b="1" lang="en-US" sz="1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She _______ this book for nearly three wee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as borrowed           B. has l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has bought                D. has k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Ten years has passed ____ the CCTV event People Who Moved China took place in 200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when     B. while    C. before     D. s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928400" y="2871720"/>
            <a:ext cx="5158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873120" y="5575320"/>
            <a:ext cx="5158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3059280" y="258840"/>
            <a:ext cx="273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s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668160" y="384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4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63640" y="34128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write the sentences using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or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ince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12800"/>
            <a:ext cx="8763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im is in Japan. He arrived there three day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They are very hungry. Their last meal was ten hou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41080" y="5046840"/>
            <a:ext cx="63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ey have been hungry for 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ours/since ten hou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41800" y="3005280"/>
            <a:ext cx="76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Jim has been in Japan for three 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14200" y="620640"/>
            <a:ext cx="85345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I have a camera. I bought it in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know Anna. I first met her three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Linda is ill. She became ill on Mo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58880" y="1258920"/>
            <a:ext cx="636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 have had a camera since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719280" y="3265560"/>
            <a:ext cx="770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 have known Ann for three years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 three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41440" y="5292720"/>
            <a:ext cx="658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nda has been ill since Mo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206280" y="4762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4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273320" y="476280"/>
            <a:ext cx="7619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ill in the blanks with the correct forms of the verb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07880" y="1685880"/>
            <a:ext cx="8382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_______________ (never be) to the water park before. I want to _____ (go) next month before the weather gets too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They _________________ (never own) any pets, but they ___________ (always want) to have a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262520" y="177804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never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6612120" y="2425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130480" y="4441680"/>
            <a:ext cx="36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never 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379040" y="509112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lways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4000" y="765000"/>
            <a:ext cx="83692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e _________ (have) a piano since las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vember. We _______ (buy) it fro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i family when they moved to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 last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Cathy and Amy ____________ (not be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k to their hometown for two years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______ (miss) their hometown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t and hope to visit the place next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699920" y="771480"/>
            <a:ext cx="1946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898080" y="1450800"/>
            <a:ext cx="155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047840" y="3395520"/>
            <a:ext cx="268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n’t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085840" y="4726080"/>
            <a:ext cx="104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22360" y="1197000"/>
            <a:ext cx="8153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his museum _________ (be) here fo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ver 20 years. It _____ (be) one of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ldest buildings in this small tow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907800" y="1203480"/>
            <a:ext cx="1870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s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56160" y="1852560"/>
            <a:ext cx="48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2"/>
          <p:cNvSpPr/>
          <p:nvPr/>
        </p:nvSpPr>
        <p:spPr>
          <a:xfrm>
            <a:off x="277920" y="116676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4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44600" y="979560"/>
            <a:ext cx="7620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Fill in the questions and ask two students. Then complete the char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5"/>
          <p:cNvSpPr/>
          <p:nvPr/>
        </p:nvSpPr>
        <p:spPr>
          <a:xfrm>
            <a:off x="515880" y="2709720"/>
            <a:ext cx="8209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Do you have a(n) _______? How long have you had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Do you own a(n)_______? How long have you owned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1268280"/>
          <a:ext cx="7777080" cy="4108680"/>
        </p:xfrm>
        <a:graphic>
          <a:graphicData uri="http://schemas.openxmlformats.org/drawingml/2006/table">
            <a:tbl>
              <a:tblPr/>
              <a:tblGrid>
                <a:gridCol w="1800360"/>
                <a:gridCol w="2736720"/>
                <a:gridCol w="3240000"/>
              </a:tblGrid>
              <a:tr h="7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How lo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vorite book  basketb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two yea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 he was 10 years o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矩形 5" descr=""/>
          <p:cNvPicPr/>
          <p:nvPr/>
        </p:nvPicPr>
        <p:blipFill>
          <a:blip r:embed="rId2"/>
          <a:stretch/>
        </p:blipFill>
        <p:spPr>
          <a:xfrm>
            <a:off x="3408480" y="865080"/>
            <a:ext cx="2273040" cy="92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2520" y="22068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Each man is the architect    of his own fa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每个人都是自己命运的建筑师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12697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junior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地位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或职位、级别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低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unior high school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初级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We could give the job to somebod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juni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可以把这份工作交给职位较低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wn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拥有；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Most households now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ow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at le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e c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家庭现在至少有一辆汽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ruthful  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dj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诚实的；老实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He was not always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truthfu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并非总是说真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1066680"/>
            <a:ext cx="7850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the article written by a father for a newspaper. What is his family going to sell at the yard s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69120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n:  </a:t>
            </a: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a train and railway se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the toy 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ughter: </a:t>
            </a: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certain t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her: </a:t>
            </a: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football shi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"/>
          <p:cNvSpPr/>
          <p:nvPr/>
        </p:nvSpPr>
        <p:spPr>
          <a:xfrm>
            <a:off x="250920" y="1212840"/>
            <a:ext cx="718920" cy="7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2700360" y="189000"/>
            <a:ext cx="417672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Fast reading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58560" y="1701720"/>
            <a:ext cx="6985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the passage and choose true (T) or false (F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3214440"/>
            <a:ext cx="78120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My daughter is 15 and my boy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ready started junior high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Our house really get small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97440" y="335772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7440" y="479736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2411280" y="549360"/>
            <a:ext cx="432144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Careful reading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03280" y="836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My son was quite sad at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My daughter felt happy to part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ertain to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I want to give up my football shi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401840" y="4076640"/>
            <a:ext cx="7742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Read the article again and 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7440" y="170028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7800" y="100332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7800" y="314784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"/>
          <p:cNvSpPr/>
          <p:nvPr/>
        </p:nvSpPr>
        <p:spPr>
          <a:xfrm>
            <a:off x="396720" y="4021200"/>
            <a:ext cx="719280" cy="7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56944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Why did they decide to have a yard s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What do they want to do with the money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om the s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755640" y="1442880"/>
            <a:ext cx="8137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ecause the father’s children get bigger   and their house seems to get small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84360" y="45370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y want to give the money to a children’s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291520" cy="56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Why does the son want to keep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rain and railway s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How can the old toys be useful ag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26920" y="2008080"/>
            <a:ext cx="8101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ecause he has owned it since his fourth birthday, and he played with it almost every week until he was about se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28000" y="4683240"/>
            <a:ext cx="709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y can be sold to the people w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e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2-01T17:52:3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